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0E3B-945E-47BB-8047-DC10F1C9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3627-01AD-47B9-9F4C-2C976627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0D62-D320-4535-AE48-2823168B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30A3-A81E-45FA-9B52-35A4A682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BC9B-C426-4683-AA19-3619E1D8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C40B-FE9A-4E1A-B5D4-E253A851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BF8-AD7C-4D93-9712-1AE75BA2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CA2B-8C49-4204-AD9F-377B0CD8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5E56-B98F-4EBD-A510-F2C994ED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04EF-6607-4A0D-8691-AAA5F3E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CFC9-4D62-4A86-80A5-69696291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4B57-9BC7-47E1-A09F-4AD20E88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C013-A286-47E5-824D-AC8A284B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E6E6-7955-4374-A71F-E7264D14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1BE8-5ED5-424F-9634-BD5AE5DB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A8BD-230A-4417-8DCB-1685D6BD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B62C-3BB2-4550-9678-7BA92EB0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76FE-97CA-4418-9A39-469C1E7E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DE67-E790-4D81-BBEA-F737F9F2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4E31-A413-4044-8EEC-2629A5C4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7AB7-B3EB-4AA6-BCFB-B0EB59E7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A8CD-60B2-47A3-B514-0FFD669D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B6EF-167B-4001-8615-2302C046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3716-B7C5-42A5-8A7C-41376476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F9CE-50A7-4B89-86CD-09D7F5C9672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A5B0-C73C-46F8-B09A-6FC7DC6FE55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 (66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т дявол, от зло и от грях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крия се в Теб, Спас мой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бавяш ме от всички тях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аваш чудес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ен!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мря Той, за да съм аз ж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ен!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з вечността безкрай щастл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Не се боя от тъмна н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 от стрела, що в ден лет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плаши ме Сатанска м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да не ще ме нале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ен!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мря Той, за да съм аз ж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ен!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з вечността безкрай щастл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Падат хиляди вдясно м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ляво - тми тук отстран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ставам аз все неслом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криля Бог от вси стра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ен!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мря Той, за да съм аз ж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ен!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з вечността безкрай щастли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 Ти светлина Си ми и щи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живот има в Тебе и мир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д Твоите криле прикри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Тебе ще хваля безспи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52360" y="959760"/>
            <a:ext cx="95774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пасен! Спасен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Умря Той, за да съм аз жив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пасен! Спасен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ез вечността безкрай щастлив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24T09:03:27Z</dcterms:modified>
  <cp:revision>101</cp:revision>
  <dc:subject/>
  <dc:title>Slide 1</dc:title>
</cp:coreProperties>
</file>